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6D75-9EF2-45B2-AFE7-9975BB7CD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6D7A-6632-444E-B888-9D29FF17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85DA1D-6576-40F2-8EBA-A88DEBBF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6A5B3B-FA36-4C4D-97AF-1F69C8FC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33243B-90CF-499D-A072-1CA39577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0512DC-1310-4468-A2F9-947CF00F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B911F2-3890-410E-9BD3-A58DF2CC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F9084E-1648-474A-A790-F06F7EF4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37319-9480-450F-A71F-EA06F18E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AE00D3-3201-473D-A69B-7FEA20278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3A54F7-DCC6-4697-989A-B1EF9CA79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C97A20-6353-43E5-9EF1-338FE9375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3C5B-97D1-4CD9-8034-F16F26AB6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4447C-86B9-4A12-829D-130AC621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C9C475-D488-4998-B69D-A7831727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7494F9-7117-4E58-80E2-9D16B7EF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29DF4A-D3BB-43EF-8AF2-C6C03E14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FC7454-F458-40D2-9B16-45A5CE11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89C36D-2DC9-417A-B49C-3203CF0D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F46953-3953-44F3-BAC1-402DC96F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0B7CDF-E6DA-4375-98BC-9F67EB45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D7E25F-EBA9-44F9-987E-A4C5954E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A1CF04-0C35-4312-B2DC-B83A3A5AB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5760-BF15-4F96-B59C-387EEB52F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68B2FA-A021-496B-A4FD-36C035DEC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313F-2BF1-4308-AB94-B8CEFFB54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C136-D201-4764-AF35-B7E50419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A40C8-DB86-41F6-BD08-52C64F85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102B-CEEF-4CBB-B0AF-1126CB21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E865-D9B7-4DFF-BE26-6A67CBD0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F967-6D26-4919-B955-5F76FFA6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AC11-704E-4DCC-8ACA-AF333E35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5BD2-7052-40C7-94F9-D94FB2DA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D5ED-037B-4B1B-8D29-0A9A0312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2458-A3C6-4BBC-A5A5-ED2B0B9E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282B-3C35-44C2-8C19-4B8F640F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9FAE-A931-44E7-934E-C57E3DA2C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A9DA-6804-4FF2-9E07-0F0449C0E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BC5AE4-425F-4C20-A0FF-F4764CAB7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813368-AF3D-49F5-BEC6-1CB8C324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AACBE0-4008-4CD7-8721-4CD35E33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F984D6-7F52-414D-83B3-26C6E8F7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6932CE-7E80-4FDF-B004-5D09709F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150D-A810-49AE-91AB-C834FE40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780AD5-E38F-4BC2-A2BE-CABB12B5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B06A0F-D442-4424-AC3E-E55B205C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ED50BD-985E-45F7-B604-C22687B5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F68201-2A12-4EFA-85D7-CD17592A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2863F2-61D4-4C25-81B0-819293F9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310F72-8107-43A9-9455-0AEE9AAA1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0DF543-2868-4578-8D94-519B4CC19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109267-33AC-4302-876E-164DC48B3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663028-126B-4097-A1C1-00884D3F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E651C5-DC28-4914-A298-8EB86038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16B2-FA84-4BC6-9E7F-8D2BE08E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BA31CF-F73E-4A2A-8853-0116D05E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82A9EE-F61B-4AD6-BBEF-E3654D18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5DEBFB-B535-4CC7-A6E5-A819ECB7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05A587-C2C2-46E3-ADD7-07BA2432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089D0C-6D01-4A74-9E8C-61A0B6D6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B370B7-D4E3-4D3C-A456-320B920F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ABBCEC-0828-4CE3-9572-D760C34D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62D09A-C381-4B7F-9606-E37403B6D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39DF62-F574-4F30-810C-D342D2355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7121C0-B701-494C-86E1-D2FC5EED8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EAA0-96BF-47FC-A4E6-BF6E0026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4644E5-F91C-417B-9A94-F3D51C46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DFDC12-0668-4A70-9A0D-218FF572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AEBABD-14C4-44AD-ABE6-22405696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D0DFAA-DA4F-4D6B-AE2B-1FDD0D6B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5EE01A-F3D6-4545-BCE7-7A4D5173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B36DCD-0C04-4EB9-AE87-9C893C04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2819F6-9EA9-49BD-B335-FFBDA890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F1AA9E-1D66-4C00-9C40-2320B927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4EE328-EDDF-46F2-9BA6-4F82CB60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0A3BB8-79BA-42B0-8AB0-09B25E688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943A-9FB0-4B9C-8BA4-BE2D7AA5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9E18F8-A9DA-452F-B3AB-ED1330BCE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2BC6F-DF2A-4DAA-B366-B1764794A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CFAA1-220A-43BC-B563-661F1415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BB75F-0AFE-4429-86C9-EE624DAE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A4082-0E1D-4832-A09F-385920AC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D985C-1D5C-4B19-B09E-8DDCA3F1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54B34-CE34-4B6E-91F6-7BFCD745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93D01-3883-47CD-A0F5-CFC4D1C8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365EA-2D6D-45BF-B6B2-D73D9A6A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0F54B-0817-4825-8EC9-2E9A8710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5EA7-E2AF-4EDC-B060-03165180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B5B72-8552-4E01-8185-CA3CFB0C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D7E25-C0D6-4D12-94F4-00C8597C7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A7402-0EA7-4AD8-AEB1-2316C6511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87A6B3-9472-4023-B244-1B79726BD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60658C-8716-4E03-9DE7-D7D30007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B1EF79-12A8-4395-82F4-5FCF41BA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7BC460-E727-43C1-BC8F-97B51A0C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4E33E3-418F-403E-AAA3-52A43743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056AD9-FE4B-4002-96BA-857A2AC2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609174-2B1F-4DB3-9D29-AA9BD638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CCCF-5FC5-483C-9290-9AD19A4D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28589D-B182-46A6-8F45-032CA961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36AC42-709F-4A94-A52D-0055B726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986393-DCD9-4D60-A589-15535863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03819A-8FF8-4AF4-ADB0-8789B5D34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D69CDC-ED13-45FA-88B0-68E7890A0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B483C-F30D-405C-8CB4-D83B84FD1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8AF2B-00CA-430E-8F54-624AD89B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FA90B-C877-4B11-98D5-AC296F74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703AA-203D-4EF2-A7D5-3A91B5A2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9D617-2159-457A-B468-D1477BE3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4FEB-21C1-48F4-9B1B-2947BBD5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04882-1E5F-4385-9AC7-727D0810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36977-7512-48E1-A4A4-292987EB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BC332-AD12-43B2-9207-56552AFD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20ACF-9B82-48BD-BCE6-19A80DF3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CA868-4533-4AEC-BB9C-2F400388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9954B-B4F6-4847-B38C-C74EA8C9C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830D3-1E43-47BD-83B8-C1CA60187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8FA9B8-B4E7-4776-A72D-0E72E74FF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2BAC47-AD9F-4CC7-81DA-373CCE02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95FB53-C9D1-4E47-8B53-AE77DDEA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4e7e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4e7e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3089-CB7B-4AFF-99E4-0B28B495A8F1}" type="slidenum">
              <a:rPr b="1" lang="pl-P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47E7-0A3D-491D-99FE-D61B48B5D8D2}" type="slidenum">
              <a:rPr b="1" lang="pl-P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rostokąt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rostokąt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rostokąt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4e7ed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93E2-7C10-4E23-AD80-05268BB8D8F5}" type="slidenum">
              <a:rPr b="1" lang="pl-PL" sz="1400" spc="-1" strike="noStrike">
                <a:solidFill>
                  <a:srgbClr val="f4e7ed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rostokąt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rostokąt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rostokąt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4e7e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4e7e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5347-40CB-406E-A9B3-EC77833998D7}" type="slidenum">
              <a:rPr b="1" lang="pl-PL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4e7e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4e7e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E1E8-88C0-45BE-A01F-3CDAF424669E}" type="slidenum">
              <a:rPr b="1" lang="pl-P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4e7e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4e7e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B073-8F78-4667-8448-C7C3C799B3FA}" type="slidenum">
              <a:rPr b="1" lang="pl-P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4e7e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4e7e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4e7ed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718D-EE32-4FB9-A359-42DD2434162C}" type="slidenum">
              <a:rPr b="1" lang="pl-PL" sz="1400" spc="-1" strike="noStrike">
                <a:solidFill>
                  <a:srgbClr val="f4e7ed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rostokąt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rostokąt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rostokąt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rostokąt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4e7e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4e7e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DD6B-8358-421F-8102-12E3637111C2}" type="slidenum">
              <a:rPr b="1" lang="pl-PL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rostokąt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rostokąt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rostokąt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4e7e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4e7e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FB95-18A2-44FE-8CC0-73B0B97F7854}" type="slidenum">
              <a:rPr b="1" lang="pl-P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952C-5463-49D4-A146-3AE945F2404C}" type="slidenum">
              <a:rPr b="1" lang="pl-P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6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f4e7ed"/>
                </a:solidFill>
                <a:latin typeface="Tw Cen MT"/>
              </a:rPr>
              <a:t>POZNAJEMY ŚWIAT DRZEW</a:t>
            </a:r>
            <a:endParaRPr b="0" lang="en-US" sz="5400" spc="-1" strike="noStrike">
              <a:solidFill>
                <a:srgbClr val="f4e7ed"/>
              </a:solidFill>
              <a:latin typeface="Tw Cen MT"/>
            </a:endParaRPr>
          </a:p>
        </p:txBody>
      </p:sp>
      <p:pic>
        <p:nvPicPr>
          <p:cNvPr id="454" name="Obraz 3" descr="Tree.jpg"/>
          <p:cNvPicPr/>
          <p:nvPr/>
        </p:nvPicPr>
        <p:blipFill>
          <a:blip r:embed="rId1"/>
          <a:stretch/>
        </p:blipFill>
        <p:spPr>
          <a:xfrm>
            <a:off x="1763640" y="2565360"/>
            <a:ext cx="5075280" cy="3807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WordArt 3"/>
          <p:cNvSpPr txBox="1"/>
          <p:nvPr/>
        </p:nvSpPr>
        <p:spPr>
          <a:xfrm>
            <a:off x="1979640" y="333360"/>
            <a:ext cx="5113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663300">
                      <a:alpha val="80000"/>
                    </a:srgbClr>
                  </a:outerShdw>
                </a:effectLst>
                <a:latin typeface="Impact"/>
              </a:rPr>
              <a:t>Drzewa liściast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6633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5" name="AutoShape 4"/>
          <p:cNvSpPr/>
          <p:nvPr/>
        </p:nvSpPr>
        <p:spPr>
          <a:xfrm>
            <a:off x="108000" y="115920"/>
            <a:ext cx="8964720" cy="6669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w Cen MT"/>
              </a:rPr>
              <a:t>Drzewa liściaste należą do roślin okrytozalążkowych. Funkcję asymilacyjną pełnią u nich liście. Organem służącym do rozmnażania jest kwiat. 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517" name="Picture 24" descr="brzoza_brodawkowata"/>
          <p:cNvPicPr/>
          <p:nvPr/>
        </p:nvPicPr>
        <p:blipFill>
          <a:blip r:embed="rId3"/>
          <a:stretch/>
        </p:blipFill>
        <p:spPr>
          <a:xfrm>
            <a:off x="395280" y="2133720"/>
            <a:ext cx="2641680" cy="198108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663300"/>
            </a:outerShdw>
          </a:effectLst>
        </p:spPr>
      </p:pic>
      <p:pic>
        <p:nvPicPr>
          <p:cNvPr id="518" name="Picture 27" descr="jabłoń_kw1"/>
          <p:cNvPicPr/>
          <p:nvPr/>
        </p:nvPicPr>
        <p:blipFill>
          <a:blip r:embed="rId4"/>
          <a:stretch/>
        </p:blipFill>
        <p:spPr>
          <a:xfrm>
            <a:off x="3251160" y="2133720"/>
            <a:ext cx="2641680" cy="198108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663300"/>
            </a:outerShdw>
          </a:effectLst>
        </p:spPr>
      </p:pic>
      <p:pic>
        <p:nvPicPr>
          <p:cNvPr id="519" name="Picture 30" descr="jarząb_pospolity"/>
          <p:cNvPicPr/>
          <p:nvPr/>
        </p:nvPicPr>
        <p:blipFill>
          <a:blip r:embed="rId5"/>
          <a:stretch/>
        </p:blipFill>
        <p:spPr>
          <a:xfrm>
            <a:off x="1547640" y="4437000"/>
            <a:ext cx="2664000" cy="1998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</p:pic>
      <p:pic>
        <p:nvPicPr>
          <p:cNvPr id="520" name="Picture 31" descr="lipa_drobnolistna"/>
          <p:cNvPicPr/>
          <p:nvPr/>
        </p:nvPicPr>
        <p:blipFill>
          <a:blip r:embed="rId6"/>
          <a:stretch/>
        </p:blipFill>
        <p:spPr>
          <a:xfrm>
            <a:off x="6084720" y="2133720"/>
            <a:ext cx="2664000" cy="1998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</p:pic>
      <p:pic>
        <p:nvPicPr>
          <p:cNvPr id="521" name="Picture 32" descr="Klon_jawor"/>
          <p:cNvPicPr/>
          <p:nvPr/>
        </p:nvPicPr>
        <p:blipFill>
          <a:blip r:embed="rId7"/>
          <a:stretch/>
        </p:blipFill>
        <p:spPr>
          <a:xfrm>
            <a:off x="4500720" y="4437000"/>
            <a:ext cx="2663640" cy="1998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</p:pic>
      <p:sp>
        <p:nvSpPr>
          <p:cNvPr id="522" name="Text Box 35"/>
          <p:cNvSpPr/>
          <p:nvPr/>
        </p:nvSpPr>
        <p:spPr>
          <a:xfrm>
            <a:off x="5221440" y="6453360"/>
            <a:ext cx="122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KLON JAW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Text Box 36"/>
          <p:cNvSpPr/>
          <p:nvPr/>
        </p:nvSpPr>
        <p:spPr>
          <a:xfrm>
            <a:off x="1996560" y="6453360"/>
            <a:ext cx="178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JARZĄB ZWYCZAJN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Text Box 37"/>
          <p:cNvSpPr/>
          <p:nvPr/>
        </p:nvSpPr>
        <p:spPr>
          <a:xfrm>
            <a:off x="6456600" y="4091040"/>
            <a:ext cx="179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LIPA DROBNOLIST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Text Box 38"/>
          <p:cNvSpPr/>
          <p:nvPr/>
        </p:nvSpPr>
        <p:spPr>
          <a:xfrm>
            <a:off x="3679560" y="409104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JABŁOŃ ZWYCZAJ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39"/>
          <p:cNvSpPr/>
          <p:nvPr/>
        </p:nvSpPr>
        <p:spPr>
          <a:xfrm>
            <a:off x="596880" y="4076640"/>
            <a:ext cx="22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BRZOZA BRODAWKOWA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4e7ed"/>
                </a:solidFill>
                <a:latin typeface="Tw Cen MT"/>
              </a:rPr>
              <a:t>DRZEWA LIŚCIASTE…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900" spc="-1" strike="noStrike">
                <a:solidFill>
                  <a:srgbClr val="1c1c1c"/>
                </a:solidFill>
                <a:latin typeface="Tw Cen MT"/>
              </a:rPr>
              <a:t>Drzewa liściaste,</a:t>
            </a: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 takie jak dęby i kasztany mają miękkie, spłaszczone </a:t>
            </a:r>
            <a:r>
              <a:rPr b="1" lang="pl-PL" sz="2900" spc="-1" strike="noStrike">
                <a:solidFill>
                  <a:srgbClr val="1c1c1c"/>
                </a:solidFill>
                <a:latin typeface="Tw Cen MT"/>
              </a:rPr>
              <a:t>liście</a:t>
            </a: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. Ich </a:t>
            </a:r>
            <a:r>
              <a:rPr b="1" lang="pl-PL" sz="2900" spc="-1" strike="noStrike">
                <a:solidFill>
                  <a:srgbClr val="1c1c1c"/>
                </a:solidFill>
                <a:latin typeface="Tw Cen MT"/>
              </a:rPr>
              <a:t>nasiona</a:t>
            </a: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 są ukryte w </a:t>
            </a:r>
            <a:r>
              <a:rPr b="1" lang="pl-PL" sz="2900" spc="-1" strike="noStrike">
                <a:solidFill>
                  <a:srgbClr val="1c1c1c"/>
                </a:solidFill>
                <a:latin typeface="Tw Cen MT"/>
              </a:rPr>
              <a:t>owocach</a:t>
            </a: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, które mogą być twarde jak </a:t>
            </a:r>
            <a:r>
              <a:rPr b="1" lang="pl-PL" sz="2900" spc="-1" strike="noStrike">
                <a:solidFill>
                  <a:srgbClr val="1c1c1c"/>
                </a:solidFill>
                <a:latin typeface="Tw Cen MT"/>
              </a:rPr>
              <a:t>żołędzie </a:t>
            </a: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lub miękkie jak </a:t>
            </a:r>
            <a:r>
              <a:rPr b="1" lang="pl-PL" sz="2900" spc="-1" strike="noStrike">
                <a:solidFill>
                  <a:srgbClr val="1c1c1c"/>
                </a:solidFill>
                <a:latin typeface="Tw Cen MT"/>
              </a:rPr>
              <a:t>jagody.</a:t>
            </a: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 Podczas zimna lub suszy wiele drzew liściastych zrzuca liście.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Aby wytworzyć nasiona drzewa liściaste wykształcają </a:t>
            </a:r>
            <a:r>
              <a:rPr b="1" lang="pl-PL" sz="2900" spc="-1" strike="noStrike">
                <a:solidFill>
                  <a:srgbClr val="1c1c1c"/>
                </a:solidFill>
                <a:latin typeface="Tw Cen MT"/>
              </a:rPr>
              <a:t>kwiaty</a:t>
            </a: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. Gdy </a:t>
            </a:r>
            <a:r>
              <a:rPr b="1" lang="pl-PL" sz="2900" spc="-1" strike="noStrike">
                <a:solidFill>
                  <a:srgbClr val="1c1c1c"/>
                </a:solidFill>
                <a:latin typeface="Tw Cen MT"/>
              </a:rPr>
              <a:t>pyłek</a:t>
            </a: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 z jednego kwiatu przedostanie się do drugiego kwiatu zaczynają się tworzyć </a:t>
            </a:r>
            <a:r>
              <a:rPr b="1" lang="pl-PL" sz="2900" spc="-1" strike="noStrike">
                <a:solidFill>
                  <a:srgbClr val="1c1c1c"/>
                </a:solidFill>
                <a:latin typeface="Tw Cen MT"/>
              </a:rPr>
              <a:t>owoce</a:t>
            </a: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4e7ed"/>
                </a:solidFill>
                <a:latin typeface="Tw Cen MT"/>
              </a:rPr>
              <a:t>Z jakiego drzewa pochodzą te liście?</a:t>
            </a:r>
            <a:endParaRPr b="0" lang="en-US" sz="3600" spc="-1" strike="noStrike">
              <a:solidFill>
                <a:srgbClr val="f4e7ed"/>
              </a:solidFill>
              <a:latin typeface="Tw Cen MT"/>
            </a:endParaRPr>
          </a:p>
        </p:txBody>
      </p:sp>
      <p:graphicFrame>
        <p:nvGraphicFramePr>
          <p:cNvPr id="530" name="Object 5"/>
          <p:cNvGraphicFramePr/>
          <p:nvPr/>
        </p:nvGraphicFramePr>
        <p:xfrm>
          <a:off x="826920" y="2565360"/>
          <a:ext cx="7431120" cy="25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565360"/>
                    <a:ext cx="7431120" cy="25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Prostokąt 5"/>
          <p:cNvSpPr/>
          <p:nvPr/>
        </p:nvSpPr>
        <p:spPr>
          <a:xfrm>
            <a:off x="1042920" y="5445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WIERZBA             BRZOZA                     DĄB                            LIP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74560" y="333360"/>
            <a:ext cx="85694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4e7ed"/>
                </a:solidFill>
                <a:latin typeface="Tw Cen MT"/>
              </a:rPr>
              <a:t>Czyje to liście i owoce ?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graphicFrame>
        <p:nvGraphicFramePr>
          <p:cNvPr id="534" name="Object 4"/>
          <p:cNvGraphicFramePr/>
          <p:nvPr/>
        </p:nvGraphicFramePr>
        <p:xfrm>
          <a:off x="324000" y="2349360"/>
          <a:ext cx="825948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349360"/>
                    <a:ext cx="825948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w Cen MT"/>
              </a:rPr>
              <a:t>Znaczenie drzew dla człowieka i środowiska naturalnego</a:t>
            </a:r>
            <a:endParaRPr b="0" lang="en-US" sz="32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Znaczenie drzew w życiu codziennym człowieka: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Tereny rekreacyjne,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Przemysł meblowy i papierniczy, budownictwo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Źródło tlenu,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Kształtowanie klimatu,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Schronienie dla zwierząt,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Produkcja materii organicznej,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Ochrona gleby przed erozją.      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w Cen MT"/>
              </a:rPr>
              <a:t>DRZEWA MOGĄ BYĆ INSPIRACJĄ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pic>
        <p:nvPicPr>
          <p:cNvPr id="540" name="Picture 6" descr="http://360puredesign.files.wordpress.com/2014/01/wieszak-2-e1362487090569.jpg"/>
          <p:cNvPicPr/>
          <p:nvPr/>
        </p:nvPicPr>
        <p:blipFill>
          <a:blip r:embed="rId1"/>
          <a:stretch/>
        </p:blipFill>
        <p:spPr>
          <a:xfrm>
            <a:off x="609480" y="1844640"/>
            <a:ext cx="3587760" cy="45720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8" descr="https://encrypted-tbn1.gstatic.com/images?q=tbn:ANd9GcRZaI7KOW_1hClg8amv0VeCJoXrlkMJ2C5sQy_cQCPL-L0crxKfIA"/>
          <p:cNvPicPr/>
          <p:nvPr/>
        </p:nvPicPr>
        <p:blipFill>
          <a:blip r:embed="rId2"/>
          <a:stretch/>
        </p:blipFill>
        <p:spPr>
          <a:xfrm>
            <a:off x="5864400" y="2641680"/>
            <a:ext cx="1847520" cy="246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5" name="Object 4"/>
          <p:cNvGraphicFramePr/>
          <p:nvPr/>
        </p:nvGraphicFramePr>
        <p:xfrm>
          <a:off x="3132000" y="1268280"/>
          <a:ext cx="5564160" cy="515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1268280"/>
                    <a:ext cx="5564160" cy="51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7" name="AutoShape 7"/>
          <p:cNvSpPr/>
          <p:nvPr/>
        </p:nvSpPr>
        <p:spPr>
          <a:xfrm>
            <a:off x="108000" y="115920"/>
            <a:ext cx="8964720" cy="6669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WordArt 8"/>
          <p:cNvSpPr txBox="1"/>
          <p:nvPr/>
        </p:nvSpPr>
        <p:spPr>
          <a:xfrm>
            <a:off x="2482920" y="406440"/>
            <a:ext cx="41767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663300">
                      <a:alpha val="80000"/>
                    </a:srgbClr>
                  </a:outerShdw>
                </a:effectLst>
                <a:latin typeface="Impact"/>
              </a:rPr>
              <a:t>Lasy w Polsce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6633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326880" y="1557360"/>
            <a:ext cx="273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w Cen MT"/>
              </a:rPr>
              <a:t>W polskich lasach 87 drzew na sto to drzewa szpilkowe w monokulturach, czyli zbiorowiskach składających się z drzew jednego gatunku, równego wieku i podobnej wysokości. Występowanie takich drzewostanów oraz stan środowiska sprawiają, że należą one do najsilniej zagrożonych w Europie.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w Cen MT"/>
              </a:rPr>
              <a:t>Obok przedstawiono zalesienie i skład gatunkowy lasów w 1994 roku (wg danych IBL).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0000"/>
                </a:solidFill>
                <a:latin typeface="Tw Cen MT"/>
              </a:rPr>
              <a:t>Lasy liściaste</a:t>
            </a:r>
            <a:r>
              <a:rPr b="0" lang="pl-PL" sz="4400" spc="-1" strike="noStrike">
                <a:solidFill>
                  <a:srgbClr val="f4e7ed"/>
                </a:solidFill>
                <a:latin typeface="Tw Cen MT"/>
              </a:rPr>
              <a:t> 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cc99"/>
                </a:solidFill>
                <a:latin typeface="Times New Roman"/>
              </a:rPr>
              <a:t>Las liściasty to ekosystem leśny z udziałem przede wszystkim drzew liściastych. Charakter lasu liściastego zmienia się w zależności od regionu geograficznego i klimatu. Lasy liściaste zrzucające liście na zimę spotyka się w strefie umiarkowanej, z wyraźnie zaznaczoną sezonowością i temperaturach poniżej zera w zimie i powyżej 12°C w lecie. Las liściasty strefy umiarkowanej charakteryzuje się stosunkowo bogatym runem, które rozwija się na wiosnę, gdy drzewa nie mają liści i światło może bez trudu penetrować głębsze warstwy lasu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600" spc="-1" strike="noStrike">
                <a:solidFill>
                  <a:srgbClr val="000000"/>
                </a:solidFill>
                <a:latin typeface="Tw Cen MT"/>
              </a:rPr>
              <a:t>DRZEWA</a:t>
            </a:r>
            <a:endParaRPr b="0" lang="en-US" sz="66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6600"/>
                </a:solidFill>
                <a:latin typeface="Tw Cen MT"/>
              </a:rPr>
              <a:t>Drzewa są największymi i najdłużej żyjącymi roślinami. Niektóre żyją kilkaset lat, a najstarsze drzewo na świecie (sosna oścista znaleziona w Białych Górach w Arizonie) ma 4600 lat. Drzewa odgrywają ważną rolę w przyrodzie. Uczestniczą w utrzymaniu odpowiedniego stężenia gazów w atmosferze, a ich korzenie przytrzymują glebę i pobierają z niej wodę, którą następnie wydalają w postaci pary wodnej przez liście do atmosfery.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w Cen MT"/>
              </a:rPr>
              <a:t>PODZIAŁ DRZEW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pic>
        <p:nvPicPr>
          <p:cNvPr id="465" name="Symbol zastępczy zawartości 5" descr=""/>
          <p:cNvPicPr/>
          <p:nvPr/>
        </p:nvPicPr>
        <p:blipFill>
          <a:blip r:embed="rId1"/>
          <a:stretch/>
        </p:blipFill>
        <p:spPr>
          <a:xfrm>
            <a:off x="615960" y="1573200"/>
            <a:ext cx="815004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306000" y="2066760"/>
            <a:ext cx="410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Drzewa iglaste są bardziej prymitywne niż rośliny liściaste i starsze wiekiem. Należą do roślin nagozalążkowych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Ich charakterystycznym elementem są szpilki pełniące funkcję asymilacyjną oraz szyszki pełniące funkcję kwiatostanów i „nasionostanów”.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W odróżnieniu od roślin okrytonasiennych, rośliny iglaste są wyłącznie wiatropylne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67" name="Picture 6" descr="sosna1"/>
          <p:cNvPicPr/>
          <p:nvPr/>
        </p:nvPicPr>
        <p:blipFill>
          <a:blip r:embed="rId1"/>
          <a:stretch/>
        </p:blipFill>
        <p:spPr>
          <a:xfrm>
            <a:off x="6372360" y="1628640"/>
            <a:ext cx="2160360" cy="162108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663300"/>
            </a:outerShdw>
          </a:effectLst>
        </p:spPr>
      </p:pic>
      <p:sp>
        <p:nvSpPr>
          <p:cNvPr id="468" name="WordArt 4"/>
          <p:cNvSpPr txBox="1"/>
          <p:nvPr/>
        </p:nvSpPr>
        <p:spPr>
          <a:xfrm>
            <a:off x="1979640" y="333360"/>
            <a:ext cx="5113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663300">
                      <a:alpha val="80000"/>
                    </a:srgbClr>
                  </a:outerShdw>
                </a:effectLst>
                <a:latin typeface="Impact"/>
              </a:rPr>
              <a:t>Drzewa iglaste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6633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9" name="AutoShape 5"/>
          <p:cNvSpPr/>
          <p:nvPr/>
        </p:nvSpPr>
        <p:spPr>
          <a:xfrm>
            <a:off x="108000" y="115920"/>
            <a:ext cx="8964720" cy="6669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0" name="Picture 9" descr="modrzew_europejski2"/>
          <p:cNvPicPr/>
          <p:nvPr/>
        </p:nvPicPr>
        <p:blipFill>
          <a:blip r:embed="rId4"/>
          <a:stretch/>
        </p:blipFill>
        <p:spPr>
          <a:xfrm>
            <a:off x="6372360" y="4508640"/>
            <a:ext cx="2193840" cy="164592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663300"/>
            </a:outerShdw>
          </a:effectLst>
        </p:spPr>
      </p:pic>
      <p:pic>
        <p:nvPicPr>
          <p:cNvPr id="471" name="Picture 12" descr="cyprys_wiecznie_zielony"/>
          <p:cNvPicPr/>
          <p:nvPr/>
        </p:nvPicPr>
        <p:blipFill>
          <a:blip r:embed="rId5"/>
          <a:stretch/>
        </p:blipFill>
        <p:spPr>
          <a:xfrm>
            <a:off x="5005440" y="3206880"/>
            <a:ext cx="2193840" cy="1646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</p:pic>
      <p:sp>
        <p:nvSpPr>
          <p:cNvPr id="472" name="Text Box 16"/>
          <p:cNvSpPr/>
          <p:nvPr/>
        </p:nvSpPr>
        <p:spPr>
          <a:xfrm>
            <a:off x="6517440" y="6167520"/>
            <a:ext cx="201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MODRZEW EUROPEJSK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17"/>
          <p:cNvSpPr/>
          <p:nvPr/>
        </p:nvSpPr>
        <p:spPr>
          <a:xfrm>
            <a:off x="7484400" y="3284640"/>
            <a:ext cx="140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SOSNA CZAR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18"/>
          <p:cNvSpPr/>
          <p:nvPr/>
        </p:nvSpPr>
        <p:spPr>
          <a:xfrm>
            <a:off x="7164720" y="3933720"/>
            <a:ext cx="167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SZYSZKA CYPRYS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4e7ed"/>
                </a:solidFill>
                <a:latin typeface="Tw Cen MT"/>
              </a:rPr>
              <a:t>CDN….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179280" y="1781280"/>
            <a:ext cx="6840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73960" indent="-273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900" spc="-1" strike="noStrike">
                <a:solidFill>
                  <a:srgbClr val="1c1c1c"/>
                </a:solidFill>
                <a:latin typeface="Tw Cen MT"/>
              </a:rPr>
              <a:t>Drzewa iglaste,</a:t>
            </a: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 takie jak jodła, mają liście pokryte woskiem, podobne w kształcie do igieł lub łuskowate, a ich nasiona znajdują się w </a:t>
            </a:r>
            <a:r>
              <a:rPr b="1" lang="pl-PL" sz="2900" spc="-1" strike="noStrike">
                <a:solidFill>
                  <a:srgbClr val="1c1c1c"/>
                </a:solidFill>
                <a:latin typeface="Tw Cen MT"/>
              </a:rPr>
              <a:t>szyszkach.</a:t>
            </a: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Większość drzew iglastych jest wiecznie zielona, co oznacza, że nie zrzucają jednocześnie wszystkich igieł.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 </a:t>
            </a:r>
            <a:r>
              <a:rPr b="1" lang="pl-PL" sz="2900" spc="-1" strike="noStrike">
                <a:solidFill>
                  <a:srgbClr val="1c1c1c"/>
                </a:solidFill>
                <a:latin typeface="Tw Cen MT"/>
              </a:rPr>
              <a:t>Na wiosnę</a:t>
            </a: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 drzewa iglaste wytwarzają </a:t>
            </a:r>
            <a:r>
              <a:rPr b="1" lang="pl-PL" sz="2900" spc="-1" strike="noStrike">
                <a:solidFill>
                  <a:srgbClr val="1c1c1c"/>
                </a:solidFill>
                <a:latin typeface="Tw Cen MT"/>
              </a:rPr>
              <a:t>szyszki.</a:t>
            </a: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 W nich są schowane </a:t>
            </a:r>
            <a:r>
              <a:rPr b="1" lang="pl-PL" sz="2900" spc="-1" strike="noStrike">
                <a:solidFill>
                  <a:srgbClr val="1c1c1c"/>
                </a:solidFill>
                <a:latin typeface="Tw Cen MT"/>
              </a:rPr>
              <a:t>nasiona</a:t>
            </a: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. Szyszka wysycha i otwiera się gdy nasiona są dojrzałe.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77" name="Obraz 7" descr=""/>
          <p:cNvPicPr/>
          <p:nvPr/>
        </p:nvPicPr>
        <p:blipFill>
          <a:blip r:embed="rId1"/>
          <a:stretch/>
        </p:blipFill>
        <p:spPr>
          <a:xfrm>
            <a:off x="7020000" y="3500280"/>
            <a:ext cx="212400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323640" y="1546200"/>
            <a:ext cx="410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99ff33"/>
                </a:solidFill>
                <a:latin typeface="Verdana"/>
              </a:rPr>
              <a:t>POPULARNE GATUNKI</a:t>
            </a:r>
            <a:endParaRPr b="0" lang="en-US" sz="1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79" name="Picture 3" descr="sosna1"/>
          <p:cNvPicPr/>
          <p:nvPr/>
        </p:nvPicPr>
        <p:blipFill>
          <a:blip r:embed="rId1"/>
          <a:stretch/>
        </p:blipFill>
        <p:spPr>
          <a:xfrm>
            <a:off x="324000" y="1916280"/>
            <a:ext cx="2160360" cy="162072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663300"/>
            </a:outerShdw>
          </a:effectLst>
        </p:spPr>
      </p:pic>
      <p:sp>
        <p:nvSpPr>
          <p:cNvPr id="480" name="WordArt 4"/>
          <p:cNvSpPr txBox="1"/>
          <p:nvPr/>
        </p:nvSpPr>
        <p:spPr>
          <a:xfrm>
            <a:off x="1979640" y="333360"/>
            <a:ext cx="5113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663300">
                      <a:alpha val="80000"/>
                    </a:srgbClr>
                  </a:outerShdw>
                </a:effectLst>
                <a:latin typeface="Impact"/>
              </a:rPr>
              <a:t>Drzewa iglaste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6633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1" name="AutoShape 5"/>
          <p:cNvSpPr/>
          <p:nvPr/>
        </p:nvSpPr>
        <p:spPr>
          <a:xfrm>
            <a:off x="108000" y="115920"/>
            <a:ext cx="8964720" cy="6669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2" name="Picture 6" descr="modrzew_europejski2"/>
          <p:cNvPicPr/>
          <p:nvPr/>
        </p:nvPicPr>
        <p:blipFill>
          <a:blip r:embed="rId4"/>
          <a:stretch/>
        </p:blipFill>
        <p:spPr>
          <a:xfrm>
            <a:off x="324000" y="4030560"/>
            <a:ext cx="2160360" cy="162108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663300"/>
            </a:outerShdw>
          </a:effectLst>
        </p:spPr>
      </p:pic>
      <p:sp>
        <p:nvSpPr>
          <p:cNvPr id="483" name="Text Box 11"/>
          <p:cNvSpPr/>
          <p:nvPr/>
        </p:nvSpPr>
        <p:spPr>
          <a:xfrm>
            <a:off x="399240" y="5734080"/>
            <a:ext cx="201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MODRZEW EUROPEJSK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Text Box 12"/>
          <p:cNvSpPr/>
          <p:nvPr/>
        </p:nvSpPr>
        <p:spPr>
          <a:xfrm>
            <a:off x="3059280" y="3573360"/>
            <a:ext cx="145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KOSODRZEW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13"/>
          <p:cNvSpPr/>
          <p:nvPr/>
        </p:nvSpPr>
        <p:spPr>
          <a:xfrm>
            <a:off x="7164720" y="3933720"/>
            <a:ext cx="167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SZYSZKA CYPRYS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6" name="Picture 14" descr="cis_pospolity"/>
          <p:cNvPicPr/>
          <p:nvPr/>
        </p:nvPicPr>
        <p:blipFill>
          <a:blip r:embed="rId5"/>
          <a:stretch/>
        </p:blipFill>
        <p:spPr>
          <a:xfrm>
            <a:off x="4932360" y="4040280"/>
            <a:ext cx="2160720" cy="1620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</p:pic>
      <p:pic>
        <p:nvPicPr>
          <p:cNvPr id="487" name="Picture 15" descr="cis_pospolity2"/>
          <p:cNvPicPr/>
          <p:nvPr/>
        </p:nvPicPr>
        <p:blipFill>
          <a:blip r:embed="rId6"/>
          <a:stretch/>
        </p:blipFill>
        <p:spPr>
          <a:xfrm>
            <a:off x="7236000" y="1916280"/>
            <a:ext cx="1672920" cy="2232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</p:pic>
      <p:pic>
        <p:nvPicPr>
          <p:cNvPr id="488" name="Picture 16" descr="kosodrzewina"/>
          <p:cNvPicPr/>
          <p:nvPr/>
        </p:nvPicPr>
        <p:blipFill>
          <a:blip r:embed="rId7"/>
          <a:stretch/>
        </p:blipFill>
        <p:spPr>
          <a:xfrm>
            <a:off x="2629080" y="1916280"/>
            <a:ext cx="2158920" cy="1618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</p:pic>
      <p:pic>
        <p:nvPicPr>
          <p:cNvPr id="489" name="Picture 17" descr="sosna_pospolita"/>
          <p:cNvPicPr/>
          <p:nvPr/>
        </p:nvPicPr>
        <p:blipFill>
          <a:blip r:embed="rId8"/>
          <a:stretch/>
        </p:blipFill>
        <p:spPr>
          <a:xfrm>
            <a:off x="4932360" y="1916280"/>
            <a:ext cx="2160720" cy="1620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</p:pic>
      <p:pic>
        <p:nvPicPr>
          <p:cNvPr id="490" name="Picture 18" descr="świerk_kłujący"/>
          <p:cNvPicPr/>
          <p:nvPr/>
        </p:nvPicPr>
        <p:blipFill>
          <a:blip r:embed="rId9"/>
          <a:stretch/>
        </p:blipFill>
        <p:spPr>
          <a:xfrm>
            <a:off x="2627280" y="4030560"/>
            <a:ext cx="2160720" cy="1621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</p:pic>
      <p:sp>
        <p:nvSpPr>
          <p:cNvPr id="491" name="Text Box 19"/>
          <p:cNvSpPr/>
          <p:nvPr/>
        </p:nvSpPr>
        <p:spPr>
          <a:xfrm>
            <a:off x="696240" y="3573360"/>
            <a:ext cx="140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SOSNA CZAR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20"/>
          <p:cNvSpPr/>
          <p:nvPr/>
        </p:nvSpPr>
        <p:spPr>
          <a:xfrm>
            <a:off x="5149440" y="3573360"/>
            <a:ext cx="172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SOSNA ZWYCZAJ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21"/>
          <p:cNvSpPr/>
          <p:nvPr/>
        </p:nvSpPr>
        <p:spPr>
          <a:xfrm>
            <a:off x="2942280" y="5734080"/>
            <a:ext cx="155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ŚWIERK KŁUJĄC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22"/>
          <p:cNvSpPr/>
          <p:nvPr/>
        </p:nvSpPr>
        <p:spPr>
          <a:xfrm>
            <a:off x="5356080" y="573408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CIS POSPO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23"/>
          <p:cNvSpPr/>
          <p:nvPr/>
        </p:nvSpPr>
        <p:spPr>
          <a:xfrm>
            <a:off x="7262640" y="4221000"/>
            <a:ext cx="1700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PSEUDOJAGOD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CISU POSPOLITE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(OSNÓWKA JES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JADAL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23640" y="1546200"/>
            <a:ext cx="410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99ff33"/>
                </a:solidFill>
                <a:latin typeface="Verdana"/>
              </a:rPr>
              <a:t>EGZOTYCZNE GATUNKI</a:t>
            </a:r>
            <a:endParaRPr b="0" lang="en-US" sz="1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7" name="WordArt 4"/>
          <p:cNvSpPr txBox="1"/>
          <p:nvPr/>
        </p:nvSpPr>
        <p:spPr>
          <a:xfrm>
            <a:off x="1979640" y="333360"/>
            <a:ext cx="5113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663300">
                      <a:alpha val="80000"/>
                    </a:srgbClr>
                  </a:outerShdw>
                </a:effectLst>
                <a:latin typeface="Impact"/>
              </a:rPr>
              <a:t>Drzewa iglast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6633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108000" y="115920"/>
            <a:ext cx="8964720" cy="6669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7"/>
          <p:cNvSpPr/>
          <p:nvPr/>
        </p:nvSpPr>
        <p:spPr>
          <a:xfrm>
            <a:off x="498960" y="5734080"/>
            <a:ext cx="183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SZYDLICA JAPOŃSK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 Box 8"/>
          <p:cNvSpPr/>
          <p:nvPr/>
        </p:nvSpPr>
        <p:spPr>
          <a:xfrm>
            <a:off x="2849400" y="3573360"/>
            <a:ext cx="187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CYPRYSIK NUTKAJSK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9"/>
          <p:cNvSpPr/>
          <p:nvPr/>
        </p:nvSpPr>
        <p:spPr>
          <a:xfrm>
            <a:off x="7164720" y="3933720"/>
            <a:ext cx="167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SZYSZKA CYPRYS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15"/>
          <p:cNvSpPr/>
          <p:nvPr/>
        </p:nvSpPr>
        <p:spPr>
          <a:xfrm>
            <a:off x="512280" y="357336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CYPRYSIK LAWSO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16"/>
          <p:cNvSpPr/>
          <p:nvPr/>
        </p:nvSpPr>
        <p:spPr>
          <a:xfrm>
            <a:off x="5141520" y="357336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JAŁOWIEC SABIŃSK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 Box 17"/>
          <p:cNvSpPr/>
          <p:nvPr/>
        </p:nvSpPr>
        <p:spPr>
          <a:xfrm>
            <a:off x="2961360" y="573408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ŚWIERK SERBSK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 Box 18"/>
          <p:cNvSpPr/>
          <p:nvPr/>
        </p:nvSpPr>
        <p:spPr>
          <a:xfrm>
            <a:off x="5180400" y="5734080"/>
            <a:ext cx="172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JODŁA KOREAŃSK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 Box 19"/>
          <p:cNvSpPr/>
          <p:nvPr/>
        </p:nvSpPr>
        <p:spPr>
          <a:xfrm>
            <a:off x="7266240" y="4222800"/>
            <a:ext cx="171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DAGLEZJA ZIELO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1" descr="cyprysik_lawsona"/>
          <p:cNvPicPr/>
          <p:nvPr/>
        </p:nvPicPr>
        <p:blipFill>
          <a:blip r:embed="rId3"/>
          <a:stretch/>
        </p:blipFill>
        <p:spPr>
          <a:xfrm>
            <a:off x="324000" y="1916280"/>
            <a:ext cx="2160360" cy="1620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</p:pic>
      <p:pic>
        <p:nvPicPr>
          <p:cNvPr id="508" name="Picture 23" descr="cyprysik_nutkajski"/>
          <p:cNvPicPr/>
          <p:nvPr/>
        </p:nvPicPr>
        <p:blipFill>
          <a:blip r:embed="rId4"/>
          <a:stretch/>
        </p:blipFill>
        <p:spPr>
          <a:xfrm>
            <a:off x="2627280" y="1916280"/>
            <a:ext cx="2193840" cy="164592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663300"/>
            </a:outerShdw>
          </a:effectLst>
        </p:spPr>
      </p:pic>
      <p:pic>
        <p:nvPicPr>
          <p:cNvPr id="509" name="Picture 26" descr="daglezja_zielona"/>
          <p:cNvPicPr/>
          <p:nvPr/>
        </p:nvPicPr>
        <p:blipFill>
          <a:blip r:embed="rId5"/>
          <a:stretch/>
        </p:blipFill>
        <p:spPr>
          <a:xfrm>
            <a:off x="7236000" y="1916280"/>
            <a:ext cx="1674720" cy="2233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</p:pic>
      <p:pic>
        <p:nvPicPr>
          <p:cNvPr id="510" name="Picture 27" descr="jałowiec_sabiński"/>
          <p:cNvPicPr/>
          <p:nvPr/>
        </p:nvPicPr>
        <p:blipFill>
          <a:blip r:embed="rId6"/>
          <a:stretch/>
        </p:blipFill>
        <p:spPr>
          <a:xfrm>
            <a:off x="4932360" y="1916280"/>
            <a:ext cx="2193840" cy="1645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</p:pic>
      <p:pic>
        <p:nvPicPr>
          <p:cNvPr id="511" name="Picture 28" descr="jodła_koreańska_szyszka_2"/>
          <p:cNvPicPr/>
          <p:nvPr/>
        </p:nvPicPr>
        <p:blipFill>
          <a:blip r:embed="rId7"/>
          <a:stretch/>
        </p:blipFill>
        <p:spPr>
          <a:xfrm>
            <a:off x="4932360" y="4005360"/>
            <a:ext cx="2193840" cy="1646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</p:pic>
      <p:pic>
        <p:nvPicPr>
          <p:cNvPr id="512" name="Picture 29" descr="świeek_serbski"/>
          <p:cNvPicPr/>
          <p:nvPr/>
        </p:nvPicPr>
        <p:blipFill>
          <a:blip r:embed="rId8"/>
          <a:stretch/>
        </p:blipFill>
        <p:spPr>
          <a:xfrm>
            <a:off x="2627280" y="4005360"/>
            <a:ext cx="2193840" cy="1646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</p:pic>
      <p:pic>
        <p:nvPicPr>
          <p:cNvPr id="513" name="Picture 30" descr="szydlica_japońska"/>
          <p:cNvPicPr/>
          <p:nvPr/>
        </p:nvPicPr>
        <p:blipFill>
          <a:blip r:embed="rId9"/>
          <a:stretch/>
        </p:blipFill>
        <p:spPr>
          <a:xfrm>
            <a:off x="290520" y="4005360"/>
            <a:ext cx="2193840" cy="1646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03:47:50Z</dcterms:created>
  <dc:creator>Asia</dc:creator>
  <dc:description/>
  <dc:language>en-US</dc:language>
  <cp:lastModifiedBy>Komputer_2</cp:lastModifiedBy>
  <dcterms:modified xsi:type="dcterms:W3CDTF">2014-11-17T12:29:29Z</dcterms:modified>
  <cp:revision>42</cp:revision>
  <dc:subject/>
  <dc:title>Tajemnice drzew</dc:title>
</cp:coreProperties>
</file>